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EEF-E22C-4763-B87C-8806807D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F98-D086-4E1C-841C-700CD4DD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8E2-01F1-43B9-9314-325CF843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6B0-67B0-4CFF-9B85-6B67DD78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522D-6175-4A6F-8E7C-B25FD750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BC6-554F-4B6E-BEDD-860ECBAD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EAE-F4E5-44D6-8247-1C45B694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E12D-6D93-41FC-8B2F-2490A153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24B7-619E-438A-854F-B3BA4B39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A33E-0760-4EBB-BFE5-8CE262A8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78D-1BF5-4A8E-8AB2-615C8C64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8DD6-7390-4912-A9E7-9467584B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96B3-1DE9-4AB9-9C1E-823D5EA9A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Go in peac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refreshed and renew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 the eternal love of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3:08:04Z</dcterms:created>
  <dc:creator>Anon Anon</dc:creator>
  <dc:description/>
  <dc:language>en-US</dc:language>
  <cp:lastModifiedBy>Anon Anon</cp:lastModifiedBy>
  <dcterms:modified xsi:type="dcterms:W3CDTF">2005-08-09T05:27:48Z</dcterms:modified>
  <cp:revision>7</cp:revision>
  <dc:subject/>
  <dc:title>PowerPoint Presentation</dc:title>
</cp:coreProperties>
</file>